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221-C5BD-4D6F-9423-2A704D1D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A5D-24C5-4F5D-A2F6-F13EA974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2FAFA-58DA-44B1-95A7-F1156F82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E764D-8158-45F9-8AB6-B75365A3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12D99-2096-4CD1-B04D-CFB774B9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13872-44F5-4C1E-92EF-CD95E494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B90CB-EE0F-43CE-9F7D-88DB4DF8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90E10-1166-4C47-8708-67F70803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2EC3A-C5A8-4A00-874C-07FAB9DA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9E239-6640-42CD-858B-7A180850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A5806-2166-4ED3-9CF5-E9CAC94E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7E5-2692-4A12-B9BE-AD5758BD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E09-D54E-4D52-A5A1-ADAA1BEA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AAAF-5239-4C65-A7BF-753FB5D2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E1C2-998D-4EC5-A68C-F8C894F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1023-8AF5-4152-BD52-7C23F99F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27C2-B8A8-45A1-B372-9DD7EF16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0411-AA79-4B74-BB76-BCBD9886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37A8-C47A-413D-B132-0D172405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6AF6-8B5B-48D8-A70B-66284D9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CDD-2571-493C-B414-5138F4B9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E5B3-BC55-449A-91E9-F2CC44E9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87DF-30D0-4BAC-A6D9-0C8E04B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D39A-43A1-4A48-B018-69310BF3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8095-15FA-49AB-965A-73936DC8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D631-DC1F-4AFE-84AE-5A778348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684B-C5C8-431A-809D-288956C1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0114-3F64-4D1F-96BC-FA33BCEA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5E41-015E-4A68-B986-DF40815B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19F0-FA1C-43A2-B47A-51FB64B1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1ADE-00B4-4AFF-9E99-EE038B92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03F-B947-4CD6-9407-E47FA725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F747-AD28-4E04-8BBA-197F8425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F4E2-0E53-42CA-9C76-E4DAF146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75B5-D39A-4E24-9FB7-CF06B1B2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A378-1EF9-4688-8291-3536FB11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484BA-402B-4D5E-9166-FD20ACDC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EFD0-6F0B-43BB-89CD-F6FC6680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F2E2-203D-4B63-AB65-F2C512AF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BFC5F-4D3C-4A83-95DB-5838712B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B751-BBD6-47D0-A692-82BCD098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6BF73-BE84-43C3-B54A-A5090F0F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0D2-866B-4F36-B40C-0433C5EB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11E0-FE4E-408D-ADA2-36BADCD5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2703-FFFA-4B4D-B640-9A22AF26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23DE-CAD3-4F00-8AEE-032F33F3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00FF-D011-40D8-A1A2-DB0564DC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7643-AD35-40C0-B255-E812D377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7B110-B062-416D-A737-4F5B83CD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A97A-47CB-4BAF-95C0-957B4367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7292-8D99-4E6A-ACD7-08DA1FB6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08B8F-C7B0-45BD-A281-47D82F8B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58F5-B05D-455C-B861-54E9C2AD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20C-4241-4ED8-94C2-22E85F6A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15C80-575A-491F-B390-46BFF1B5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D57F8-B7B2-4FFB-824A-C922E87D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098FD-71E4-4FEB-8358-315A0173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D85F2-5AA4-434E-BF6A-AD9D2963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5D646-B037-4155-BE4C-5BD18A7D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9BDD0-4225-42EF-BDA1-82C40C83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9565A-9218-4E26-95E8-09259942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10980-A1F1-499E-BE00-19B56EB2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AB69A-5C05-46A2-8F01-D261D9E0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EB17F-0DA0-4BD8-BBDE-71DA9132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60F-38C9-4FC9-885D-34ADE205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D3C02-42F2-4DFE-9E5C-7D661958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686E9-7E93-4E48-988B-E6757FA8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E71C8-AA9D-4250-894B-55ADFCC9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6C202-A94A-44B3-BD54-10096C40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A0C47-9809-4FD5-A9AC-3062D414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A109C-73ED-4458-9B55-CA9A83FA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B4585-1126-41C9-ADE8-F81469C8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7F548-2E30-461A-B051-24347BCA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367EE-C2CE-4EEF-A93D-183D848B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4A70F-59F6-4653-A72A-71B93C6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137-2EC6-4702-8ECF-ADFC1BD9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A3313-D0CD-4D1C-A98B-AB7E6CC1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C990-545E-4ECA-B8E7-51EE001F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E7DD2-B9E4-4F0F-8890-92523B7F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8C681-F569-4A82-AF00-23CDB9D1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4C63-70D7-4D4C-BE51-FD8501E4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DFD9E-A10B-42B7-8CA7-5AD0756B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1E9FC-527C-4D79-B6C8-59518F69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EF43-7D94-4B3B-9E7B-E0E2B341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D33B-0CBD-405B-8DFD-5D847553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EABDD-5939-4D27-BE8B-C7D1ADE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75A-ECDA-41D1-8545-9825355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32C73-F96A-4068-A415-D67F1DE4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EACA1-ABCC-4189-9388-026C81F2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88B7D-0D2D-4E30-A49E-9220EB38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97FA2-32D0-4E80-85AB-C89334E5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4ADCB-3434-4EE3-B4E8-59A09578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6A0C2-D0D7-46BD-B6BF-1A487877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BA5D0-91BA-45F9-BB6F-4E6C66FF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4E30D-87BC-4B6A-8063-DE195E8F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CC06F-5A15-4FBE-B566-AA83C691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5DE0D-176B-43E6-B3C3-31B1DA94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E9E-029A-4F48-BE4F-C531DFB5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F9CD3-DD38-4B9E-9AE3-474459BD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8F75E-3DBC-4B16-94B3-65924DF1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CA13D-A6DA-4F91-8BB5-DCAE9A62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EF000-D558-439F-87F3-068C0D38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ACED1-66A5-43C6-B414-7EA09C40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4CF7-DFB3-421B-AEA7-DE463AEC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EFFFE-A57B-4475-897D-67A76568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FE950-6202-4C5B-9CCB-0251CB8B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78BE5-0599-43B1-B38C-D4C82B7D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5BA54-F53E-4A0C-B362-1C59460C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DB55E-F0B5-4F49-A7F7-59142331AAB9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18EE5-DACF-4DBD-AA23-7898EF01B41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D18F3-E216-4585-A59B-34A89D268484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D58F0-F2FA-4553-8249-E47BD869B0E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4D1FD-BC26-44E7-B0F1-4043825278A1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8466C-833D-4A23-AD27-485CA6AA85A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CF800-3231-46DB-A8E2-AD106BD6B135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7BC0F-0C93-45DE-B74D-C418B0812B0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993EF-9899-43AB-BDA9-2A33C1F6F34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8D5F5-10BA-454C-B1DA-B9B53DA4385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F8578-D0D3-4588-8B6C-D4A9A4909243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6F7BD-9AE7-47A6-A87A-35B26B4348D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78D3E-7856-476F-80EB-337AB551B5E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47BB6-78A3-47D7-8727-EB8F59C64A4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6FC6F-0574-4BA9-96DB-C20348C3843D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39FFA-CEEE-4E6C-9A15-275038E3325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893D4-8E00-4353-A36F-76C2AD5C7C1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86CF3-E9EA-410E-B0F2-656E8A47754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"/>
          <p:cNvSpPr/>
          <p:nvPr/>
        </p:nvSpPr>
        <p:spPr>
          <a:xfrm>
            <a:off x="901800" y="469800"/>
            <a:ext cx="7213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FIP High-Resolution Hurrican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valuation by the Developmental Testbed Center (D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igia Bernardet, Louisa Nance et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736560" y="1930320"/>
            <a:ext cx="814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Franklin Gothic Book"/>
              </a:rPr>
              <a:t>Runs for up to 69 cases at two or more horizontal grid spacings were submitted for evaluation of impact of resolution on track and intensity foreca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736560" y="3495600"/>
            <a:ext cx="81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odest improvement (a few lead times) were seen for HWRF-X (9 and 3 km) and AHW (13.5 and 1.5 km) in track and/or intensity. GFDL (9 and 6) showed no difference and COAMPS-TC (9 and 3) and UW-NM had some degraded tra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736560" y="481968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Franklin Gothic Book"/>
              </a:rPr>
              <a:t>May need better physics and/or initialization and/or higher-grid spacing to realize benefits of higher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TextBox 7" descr=""/>
          <p:cNvPicPr/>
          <p:nvPr/>
        </p:nvPicPr>
        <p:blipFill>
          <a:blip r:embed="rId2"/>
          <a:stretch/>
        </p:blipFill>
        <p:spPr>
          <a:xfrm>
            <a:off x="682560" y="2755800"/>
            <a:ext cx="8467920" cy="414360"/>
          </a:xfrm>
          <a:prstGeom prst="rect">
            <a:avLst/>
          </a:prstGeom>
          <a:ln w="0">
            <a:noFill/>
          </a:ln>
        </p:spPr>
      </p:pic>
      <p:pic>
        <p:nvPicPr>
          <p:cNvPr id="404" name="TextBox 8" descr=""/>
          <p:cNvPicPr/>
          <p:nvPr/>
        </p:nvPicPr>
        <p:blipFill>
          <a:blip r:embed="rId3"/>
          <a:stretch/>
        </p:blipFill>
        <p:spPr>
          <a:xfrm>
            <a:off x="731880" y="5694480"/>
            <a:ext cx="841860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4"/>
          <p:cNvSpPr/>
          <p:nvPr/>
        </p:nvSpPr>
        <p:spPr>
          <a:xfrm>
            <a:off x="736560" y="1384200"/>
            <a:ext cx="814068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HWRF has been developed at EMC based on WRF V2. Development has not kept pace with WRF general repository, now on V3.1.1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Research community has had no support to use HWRF code and there is no clear path for transitioning new developments onto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In collaboration with EMC, DTC is bridging this gap by adding HWRF physics and dynamics to general WRF repository to make HWRF a configuration of WR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Once code passes all performance tests, EMC has agreed to use code from general WRF repository i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The next public release of WRF (March 2010) will contain HWRF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DTC will conduct a HWRF Tutorial in February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HWRF will be a WRF Reference Configuration and verification statistics will be made public by the D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736560" y="487440"/>
            <a:ext cx="8688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Medium"/>
              </a:rPr>
              <a:t>HWRF code management: </a:t>
            </a:r>
            <a:br>
              <a:rPr sz="3600"/>
            </a:br>
            <a:r>
              <a:rPr b="0" lang="en-GB" sz="1800" spc="-1" strike="noStrike">
                <a:solidFill>
                  <a:srgbClr val="4e3b30"/>
                </a:solidFill>
                <a:latin typeface="Franklin Gothic Medium"/>
              </a:rPr>
              <a:t>a new mechanism to facilitate collaboration between research and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98040" y="487080"/>
            <a:ext cx="8688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Medium"/>
              </a:rPr>
              <a:t>HWRF code management: </a:t>
            </a:r>
            <a:br>
              <a:rPr sz="2800"/>
            </a:br>
            <a:r>
              <a:rPr b="0" lang="en-GB" sz="1800" spc="-1" strike="noStrike">
                <a:solidFill>
                  <a:srgbClr val="4e3b30"/>
                </a:solidFill>
                <a:latin typeface="Franklin Gothic Medium"/>
              </a:rPr>
              <a:t>a new mechanism to facilitate collaboration between research and operation</a:t>
            </a: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98040" y="1553760"/>
            <a:ext cx="8356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Vision is that operations and research will be using the same code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Contributions from research community (third-level nesting, sea spray etc.) will be incorporated into general WRF repository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Regular tests (weekly regression tests, monthly performance tests etc.) will be conducted to assure that new contributions do not break the code or degrade the forecast skill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DTC and HFIP are collaborating to create a HWRF testing and evaluation framework on the HFIP njet Linux cluster in Boulder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By using common code and having a testing framework available, new developments can be evaluated and be available for potential operational implementation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3"/>
          <p:cNvSpPr/>
          <p:nvPr/>
        </p:nvSpPr>
        <p:spPr>
          <a:xfrm>
            <a:off x="901800" y="469800"/>
            <a:ext cx="72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WRF project at the DTC – 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736560" y="1181160"/>
            <a:ext cx="81406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Franklin Gothic Book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HWRF physics and dynamics have been merged with V3.1.1 and are in branch of the WRF reposi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POM-TC, coupler and vortex initialization have been ported to DTC platfor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Initial tests have been per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Franklin Gothic Book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Branch code is being put on repository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Additional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Preparations for tu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60080"/>
            <a:ext cx="868824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Joint Hurricane Workshop &amp; Tutorial – Feb 22-26, 2010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82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99"/>
              </a:spcBef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a5644e"/>
                </a:solidFill>
                <a:latin typeface="Franklin Gothic Book"/>
              </a:rPr>
              <a:t>Jointly held by DTC and NCAR/MMM, will cover AHW and HWRF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31640" indent="-323640">
              <a:spcBef>
                <a:spcPts val="499"/>
              </a:spcBef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a5644e"/>
                </a:solidFill>
                <a:latin typeface="Franklin Gothic Book"/>
              </a:rPr>
              <a:t>Two-day workshop of hurricane forecasting science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31640" indent="-323640">
              <a:spcBef>
                <a:spcPts val="499"/>
              </a:spcBef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a5644e"/>
                </a:solidFill>
                <a:latin typeface="Franklin Gothic Book"/>
              </a:rPr>
              <a:t>Three-day “WRF for Hurricanes” tutorial, with hand-on practice sessions, will teach how to run WRF to simulate and forecast hurrican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00:36Z</dcterms:created>
  <dc:creator>Ligia Bernardet</dc:creator>
  <dc:description/>
  <dc:language>en-US</dc:language>
  <cp:lastModifiedBy>Ligia Bernardet</cp:lastModifiedBy>
  <dcterms:modified xsi:type="dcterms:W3CDTF">2009-10-14T18:03:32Z</dcterms:modified>
  <cp:revision>15</cp:revision>
  <dc:subject/>
  <dc:title>Slide 1</dc:title>
</cp:coreProperties>
</file>